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FE69-4AD8-4102-A8F1-6C659CE38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8F7-E103-4FB3-9D38-E4BEF529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not appropriate in most classr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0BC4-D190-4F3E-9D4A-F4627E20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65CE-9791-49E1-AD36-A034DAA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9B61-8A25-4A29-BBF6-B9163D29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E90D-84A2-4480-A579-0ED45EE9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9D9-4842-41D9-A1AF-51B602E9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BDF-DD6E-4863-B603-FF08AE0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306-E712-4102-A74B-EFC751AD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A2BF-131E-4032-887D-37EC6A3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9E5-8C68-49ED-8D63-DC88893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C23-4CB9-48A4-AE30-2B16384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3139-9DC3-47C5-AD94-999D7C1E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4BDF-B3BE-45F7-9C23-E2B12259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E9F2-55EF-437E-9435-2AA2619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CFE-4C33-41F7-A7FD-E9DA6D4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6A19-C25C-4ADC-BF7E-81798D2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6F2-9B97-4188-B250-4EE45F9E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1C17-BC43-4729-8C1B-AE74B8C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E7EA-2862-4B5C-9560-9E253AE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B8B4-8764-4F86-A9C9-B842465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DE65-AD30-4228-82F0-85183CF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B3B2-19F7-46B7-908F-617EC56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639F-DD72-47D3-86BD-ADBFE9A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9964-C50D-41EA-A103-A6A9AF3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79F9-48CB-4E9E-A355-CD4F248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4085-1EC5-42FB-B81A-FF5437823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617-543D-428F-A71F-01077BA9A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752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imals in the Classroom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1600" t="4276" r="1600" b="6414"/>
          <a:stretch/>
        </p:blipFill>
        <p:spPr>
          <a:xfrm>
            <a:off x="5381640" y="4259160"/>
            <a:ext cx="3762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981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y have live animals  in the classroom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oosing a Classroom Anima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800" y="2209680"/>
            <a:ext cx="338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er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1295280" y="2209680"/>
            <a:ext cx="2895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acher Responsibilitie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ingful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and super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conc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lling 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26:49Z</dcterms:created>
  <dc:creator>Cynthia Moore</dc:creator>
  <dc:description/>
  <dc:language>en-US</dc:language>
  <cp:lastModifiedBy>Cynthia J. Moore</cp:lastModifiedBy>
  <dcterms:modified xsi:type="dcterms:W3CDTF">2011-05-18T17:17:27Z</dcterms:modified>
  <cp:revision>27</cp:revision>
  <dc:subject/>
  <dc:title>Animals in the Classroom</dc:title>
</cp:coreProperties>
</file>